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4236-6660-43AA-9982-908D9552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604C-BAA6-47B1-9014-144A7359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594-1AC4-44B2-A27D-B6C4C6FB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699F-FDAA-48E0-9734-0EF99083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118-6719-4805-AF55-A68C78AE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733-DE18-495D-90FD-2BF4D34D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2DB-EB67-4E8F-8E6E-57D510A1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A4D-3789-4198-A3C0-2D3D3968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A4E-AB1C-4E67-AF8C-661C394A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2AF-2D5C-4E22-85D5-B4CA648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BC1-A855-4083-BCE9-4F6E44B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110-C2FF-44BA-B459-5A87892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5E1D-0725-4D8D-9A51-548D46108027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260241CB-085F-48FC-8D37-CDBDD06C556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ity' or ‘town’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'king'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3040"/>
                <a:gridCol w="1014480"/>
                <a:gridCol w="15904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9EF79B38-0659-422F-8060-1A8ED2FA9EC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6560"/>
                <a:gridCol w="1795680"/>
                <a:gridCol w="1687320"/>
                <a:gridCol w="131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atch the breathings -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ἑ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in)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673935D8-AB93-48B9-A196-6965DE81344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2357A2B5-903D-4EDA-8B97-6B6B84A0F898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3.32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[he knows]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knows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i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gels in heaven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4.60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 Do you repl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th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B5B827DD-83E3-4160-9C8C-4F75DC6EDB1B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18930BF7-398F-4324-ABFE-21B7927EEAF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 or the 3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4911EFE4-BC41-4A24-9F20-B47C8F8752F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0EA9FE5C-5AE5-4494-B353-A6715BC09B0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copying nom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r>
              <a:rPr b="0" lang="el-GR" sz="19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  <a:ea typeface="Arial"/>
              </a:rPr>
              <a:t>εα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o decline a word such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once we know the nom. sing.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 stem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C0A94C22-7681-4EAC-9949-4FA856160957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9EEF8D89-17CA-4352-B882-520919FEA85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89276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1592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Us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John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α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δι’ αὐτου ἐγενετ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 thing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Mark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6.50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γαρ αὐτον εἰδ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Fo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on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Matt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7.1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 ὁ πιστευων ὁτι Ἰησους ἐστιν ὁ Χρισ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A213FE91-7DC2-4EAC-BBEC-E41E767CB25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3:Grammar </a:t>
            </a:r>
            <a:fld id="{A2516C30-1F9E-48E2-8818-626CFD737DDB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 14.5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συνερχον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 John 5.1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Χρισ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ery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8-09-25T13:06:31Z</dcterms:modified>
  <cp:revision>23</cp:revision>
  <dc:subject/>
  <dc:title>Slide 1</dc:title>
</cp:coreProperties>
</file>